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2757-A06D-46CE-8D65-6DD96A9BB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ecesitamos ayunar? </a:t>
            </a:r>
            <a:r>
              <a:rPr b="1" lang="es-ES" sz="800" spc="-1" strike="noStrike">
                <a:solidFill>
                  <a:srgbClr val="000000"/>
                </a:solidFill>
                <a:latin typeface="Century Gothic"/>
                <a:ea typeface="Arial"/>
              </a:rPr>
              <a:t>(RP-8)</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única disciplina espiritual que cumple con las condiciones de 2 Crónicas 7:14 – “si se humillare mi pueblo, sobre el cual mi nombre es invocado, y oraren, y buscaren mi rostro, y se convirtieren de sus malos caminos; entonces yo oiré desde los cielos, y perdonaré sus pecados, y sanaré su tierra”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manera espiritual de humillarnos ante Dios. David dijo, “afligí con ayuno mi alma” (Salmos 35:13,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vee más tiempo para orar, buscar la presencia de Dios y arrepentirse porque uno está enfocado en el Señor y menos preocupado con rutinas diarias, como preparar comida y comer, que están más enfocadas en uno mismo. (1 Sam. 7:6) </a:t>
            </a:r>
            <a:r>
              <a:rPr b="1" lang="es-ES" sz="800" spc="-1" strike="noStrike">
                <a:solidFill>
                  <a:srgbClr val="000000"/>
                </a:solidFill>
                <a:latin typeface="Century Gothic"/>
                <a:ea typeface="Arial"/>
              </a:rPr>
              <a:t>(RP-9)</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s ayuda a tener claridad de pensamiento y la habilidad de concentrarnos en la Palabra de Dios. (Jeremías 36:6)</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nsforma la oración en una experiencia más rica, profunda y personal. (Esdras 8:23)</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ayudar a traer reavivamiento, y es de importancia vital al orar por el evangelismo. (Hecho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as formas en que puede afectarnos el ayun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revelación a través del Espíritu Santo de nuestra verdadera condición espiritual, llevando al quebrantamiento y arrepentimient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una nueva fe y esperanza, y mayor confianz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s un medio primario de restauración. Humillarse al ayunar libera al Espíritu Santo para que realice su obra especial de reavivamiento en ti. Esto transforma tu relación con Dios y te brinda una mayor comprensión de la realidad y presencia de Dios en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ar reduce el poder del yo para que el Espíritu Santo pueda realizar un trabajo más intenso dentro de nosotros. Como resultado, él puede realizar su voluntad en nosotros y hacer más abundantemente por nosotros de lo que podríamos imaginar.</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darnos un espíritu de entrega, incluso un quebrantamiento santo, resultando en calma interior y auto-control.</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limina algunas de las distracciones físicas en nuestras vidas y puede llevarnos a un paso más tranquilo y una actitud más pacífic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renueva la visión espiritual. Cuando sientes que tu vida está fuera de control o has perdido tu primer amor por el Señor, el ayuno puede ayudarte a enfocar una vez más en el plan de Dios para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inspira determinación para seguir el plan revelado de Dios. Quizá sepas lo que Dios quiere que hagas pero te cuesta seguir sus planes. El ayuno puede ayudar a fortalecer tu resolución y mantenerte en el camino señal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as decidido ayunar, ¿cuál es tu objetivo? ¿Es una renovación espiritual, sanidad, la resolución de problemas, conocer a Dios? </a:t>
            </a:r>
            <a:r>
              <a:rPr b="1" lang="es-ES" sz="800" spc="-1" strike="noStrike">
                <a:solidFill>
                  <a:srgbClr val="000000"/>
                </a:solidFill>
                <a:latin typeface="Century Gothic"/>
                <a:ea typeface="Times New Roman"/>
              </a:rPr>
              <a:t>(Ver apéndice 5</a:t>
            </a:r>
            <a:r>
              <a:rPr b="0" lang="es-ES" sz="800" spc="-1" strike="noStrike">
                <a:solidFill>
                  <a:srgbClr val="000000"/>
                </a:solidFill>
                <a:latin typeface="Century Gothic"/>
                <a:ea typeface="Times New Roman"/>
              </a:rPr>
              <a:t>—Cómo planificar el ayuno exitos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PUEDES LLEGAR A SER FUERTE EN LA ORACIÓN </a:t>
            </a:r>
            <a:r>
              <a:rPr b="1" lang="es-ES" sz="800" spc="-1" strike="noStrike">
                <a:solidFill>
                  <a:srgbClr val="000000"/>
                </a:solidFill>
                <a:latin typeface="Century Gothic"/>
                <a:ea typeface="Times New Roman"/>
              </a:rPr>
              <a:t>(RP-10)</a:t>
            </a:r>
            <a:r>
              <a:rPr b="1" lang="es-ES" sz="800" spc="-1" strike="noStrike">
                <a:solidFill>
                  <a:srgbClr val="000000"/>
                </a:solidFill>
                <a:latin typeface="Century Gothic"/>
                <a:ea typeface="Arial"/>
              </a:rPr>
              <a:t>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Haz tiempo para orar. </a:t>
            </a:r>
            <a:r>
              <a:rPr b="0" lang="es-ES" sz="800" spc="-1" strike="noStrike">
                <a:solidFill>
                  <a:srgbClr val="000000"/>
                </a:solidFill>
                <a:latin typeface="Century Gothic"/>
                <a:ea typeface="Arial"/>
              </a:rPr>
              <a:t>A menos que sea un hábito, tu vida de oración siempre sufrirá. La solución es un hábito consistente de oración. David dijo, “Oh Jehová, de mañana oirás mi voz; de mañana me presentaré delante de ti, y esperaré. Salmos 5:3. David había aprendido el valor de un hábito diario sistemático de oración. Podemos tratar de encontrar tiempo—</a:t>
            </a:r>
            <a:r>
              <a:rPr b="1" lang="es-ES" sz="800" spc="-1" strike="noStrike">
                <a:solidFill>
                  <a:srgbClr val="000000"/>
                </a:solidFill>
                <a:latin typeface="Century Gothic"/>
                <a:ea typeface="Arial"/>
              </a:rPr>
              <a:t>debemos hacer tiempo para orar</a:t>
            </a:r>
            <a:r>
              <a:rPr b="0" lang="es-ES" sz="800" spc="-1" strike="noStrike">
                <a:solidFill>
                  <a:srgbClr val="000000"/>
                </a:solidFill>
                <a:latin typeface="Century Gothic"/>
                <a:ea typeface="Arial"/>
              </a:rPr>
              <a:t>—diariamente.</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ncuentra un lugar silencioso para orar y estudiar la Biblia. </a:t>
            </a:r>
            <a:r>
              <a:rPr b="0" lang="es-ES" sz="800" spc="-1" strike="noStrike">
                <a:solidFill>
                  <a:srgbClr val="000000"/>
                </a:solidFill>
                <a:latin typeface="Century Gothic"/>
                <a:ea typeface="Arial"/>
              </a:rPr>
              <a:t>Para mejorar realmente tu vida de oración recomendamos que encuentres un lugar especial para orar. Jesús dijo, “cuando ores, entra en tu aposento...” Mat. 6:6. Nuestro Señor no estaba hablando simplemente de una actitud de oración, sino de un lugar especial, un lugar donde te encuentras con él. Jesús no solamente habló sobre esto, lo practicó. Todo cristiano debería tener un lugar especial para la oración y el estudio de l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Reconoce a Dios por quien es.</a:t>
            </a:r>
            <a:r>
              <a:rPr b="0" lang="es-ES" sz="800" spc="-1" strike="noStrike">
                <a:solidFill>
                  <a:srgbClr val="000000"/>
                </a:solidFill>
                <a:latin typeface="Century Gothic"/>
                <a:ea typeface="Arial"/>
              </a:rPr>
              <a:t> Toda oración debería comenzar con un reconocimiento de la naturaleza de Dios, porque es la naturaleza de Dios la que nos da la confianza que nuestra oración será contestada. Reconocer la naturaleza de Dios se llama alabar. La oración modelo, el Padrenuestro, comienza y termina con alabanza. La alabanza es la entrada al cielo (Salmos 100:4) Comienza la oración con </a:t>
            </a:r>
            <a:r>
              <a:rPr b="1" lang="es-ES" sz="800" spc="-1" strike="noStrike">
                <a:solidFill>
                  <a:srgbClr val="000000"/>
                </a:solidFill>
                <a:latin typeface="Century Gothic"/>
                <a:ea typeface="Arial"/>
              </a:rPr>
              <a:t>adoració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onfiesa tus faltas.</a:t>
            </a:r>
            <a:r>
              <a:rPr b="0" lang="es-ES" sz="800" spc="-1" strike="noStrike">
                <a:solidFill>
                  <a:srgbClr val="000000"/>
                </a:solidFill>
                <a:latin typeface="Century Gothic"/>
                <a:ea typeface="Arial"/>
              </a:rPr>
              <a:t> Al principio de cada momento de oración debemos considerar el tema de la confesión. El salmista nos recuerda, “si en mi corazón hubiese yo mirado a la iniquidad, el Señor no me habría escuchado.” Salmos 66:18. Las escrituras dejan en claro que los pecados no confesados bloquean el canal entre Dios y el que ora. Un hábito diario de oración nos brinda un tiempo especial para evaluar nuestra condición espiritual. La confesión es un prerrequisito para la oración poderosa. El pecado voluntario y la oración son totalmente incompatibles. Una parte vital de nuestra oración debería ser este momento de auto-examen.  </a:t>
            </a:r>
            <a:r>
              <a:rPr b="1" lang="es-ES" sz="800" spc="-1" strike="noStrike">
                <a:solidFill>
                  <a:srgbClr val="000000"/>
                </a:solidFill>
                <a:latin typeface="Century Gothic"/>
                <a:ea typeface="Arial"/>
              </a:rPr>
              <a:t>Confesión es la “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gradécele a Dios por lo que ha hecho.</a:t>
            </a:r>
            <a:r>
              <a:rPr b="0" lang="es-ES" sz="800" spc="-1" strike="noStrike">
                <a:solidFill>
                  <a:srgbClr val="000000"/>
                </a:solidFill>
                <a:latin typeface="Century Gothic"/>
                <a:ea typeface="Arial"/>
              </a:rPr>
              <a:t> Nuestra oración debería estar llena de gratitud y acción de gracias. ¿Qué ha hecho él por ti? La adoración se define como adorar a Dios por lo que es, y la acción de gracias es agradecer a Dios por lo que ha hecho. Esto involucra cosas específicas. La próxima vez que ores, haz una lista en tu mente de todo lo que Dios ha hecho por ti. Revisa los dones de Dios del pasado. La gratitud es una gran atmósfera en la que puedes pedir al Padre. Nos recuerda su bondad y respuestas del pasado. </a:t>
            </a:r>
            <a:r>
              <a:rPr b="1" lang="es-ES" sz="800" spc="-1" strike="noStrike">
                <a:solidFill>
                  <a:srgbClr val="000000"/>
                </a:solidFill>
                <a:latin typeface="Century Gothic"/>
                <a:ea typeface="Arial"/>
              </a:rPr>
              <a:t>Agradecimiento es la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Trae a Dios tus necesidades y peticiones. </a:t>
            </a:r>
            <a:r>
              <a:rPr b="0" lang="es-ES" sz="800" spc="-1" strike="noStrike">
                <a:solidFill>
                  <a:srgbClr val="000000"/>
                </a:solidFill>
                <a:latin typeface="Century Gothic"/>
                <a:ea typeface="Arial"/>
              </a:rPr>
              <a:t>Orar con la palabra de Dios es una forma poderosa de orar. Jorge Mueller, el gran líder de orfanatos del siglo pasado, era conocido por su enorme fe en Dios así como su vida de oración poderosa. Sin duda el secreto residía en el hecho que Jorge Mueller nunca oraba sin una Biblia abierta. Había aprendido el poder de la palabra de Dios a Jeremías, “¿No es mi palabra como fuego... y como martillo que quebranta la piedra?” Jeremías 23:29. </a:t>
            </a:r>
            <a:r>
              <a:rPr b="1" lang="es-ES" sz="800" spc="-1" strike="noStrike">
                <a:solidFill>
                  <a:srgbClr val="000000"/>
                </a:solidFill>
                <a:latin typeface="Century Gothic"/>
                <a:ea typeface="Arial"/>
              </a:rPr>
              <a:t>Tus súplicas son la “S.” ACAS—un acróstico para adoración, confesión, acción de gracias y súplica—provee una estructura para la oración.</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No te des por vencido. </a:t>
            </a:r>
            <a:r>
              <a:rPr b="0" lang="es-ES" sz="800" spc="-1" strike="noStrike">
                <a:solidFill>
                  <a:srgbClr val="000000"/>
                </a:solidFill>
                <a:latin typeface="Century Gothic"/>
                <a:ea typeface="Arial"/>
              </a:rPr>
              <a:t>Jacob nos provee con un ejemplo único de uno que persistió hasta que recibió una bendición anhelada de Dios. Él dijo, No te dejaré, si no me bendices.” Gen. 32:26. Muchos creyentes comienzan su viaje de oración con grandes intenciones, solo para darse por vencidos cuando el camino se torna difícil. La persistencia es un prerrequisito para el poder espiritual. Al hablar de la oración, debemos decir con el salmista, </a:t>
            </a:r>
            <a:r>
              <a:rPr b="0" i="1" lang="es-ES" sz="800" spc="-1" strike="noStrike">
                <a:solidFill>
                  <a:srgbClr val="000000"/>
                </a:solidFill>
                <a:latin typeface="Century Gothic"/>
                <a:ea typeface="Arial"/>
              </a:rPr>
              <a:t>“Pronto está mi corazón, oh Dios, mi corazón está dispuesto.” </a:t>
            </a:r>
            <a:r>
              <a:rPr b="0" lang="es-ES" sz="800" spc="-1" strike="noStrike">
                <a:solidFill>
                  <a:srgbClr val="000000"/>
                </a:solidFill>
                <a:latin typeface="Century Gothic"/>
                <a:ea typeface="Arial"/>
              </a:rPr>
              <a:t>Salmos 57:7. Haz todo lo que puedas para fortalecer tu vida de oración. Es verdad, “mayores cosas se obtienen de la oración que por est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Medita en la presencia de Dios. </a:t>
            </a:r>
            <a:r>
              <a:rPr b="0" lang="es-ES" sz="800" spc="-1" strike="noStrike">
                <a:solidFill>
                  <a:srgbClr val="000000"/>
                </a:solidFill>
                <a:latin typeface="Century Gothic"/>
                <a:ea typeface="Arial"/>
              </a:rPr>
              <a:t>Piensa en lo que estás leyendo en las Escrituras y cómo se aplica a tu vida personal. La meditación no solamente es significativa, sino también vital para la oración equilibrada. Los Salmos comienzan con esta declaración: “Bienaventurado el hombre que... en la ley de Jehová está su delicia; y en su ley medita de día y de noche.” Salmos 1:1 y 2. El éxito es mencionado junto con la orden de meditar día y noche en la Palabra de Dios (Josué 1:8). Pregúntate qué haz aprendido de Dios a partir del pasaje bíblico, y de qué manera te está hablando Dios.</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anta un cántico nuevo.</a:t>
            </a:r>
            <a:r>
              <a:rPr b="0" lang="es-ES" sz="800" spc="-1" strike="noStrike">
                <a:solidFill>
                  <a:srgbClr val="000000"/>
                </a:solidFill>
                <a:latin typeface="Century Gothic"/>
                <a:ea typeface="Times New Roman"/>
              </a:rPr>
              <a:t> Muchos cristianos están redescubriendo el gozo de cantar en voz alta durante la oración. En la Biblia el canto es vital en la adoración. Pablo y Silas fueron arrestados y encarcelados por predicar el evangelio (Hechos 16:25), pero los hallamos cantando alabanzas. Esto cambió todo. Como no tenían himnarios, sus cantos deben haber salido del corazón. El salmista lo llamó “cantar un cántico nuevo.” Cuando haces esto a solas con Dios no tendrás de qué avergonzarte. Inventa cánticos y palabras simples. Será un gozo nuevo—solo entre tu y Dio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P-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mucho por los demás.</a:t>
            </a:r>
            <a:r>
              <a:rPr b="0" lang="es-ES" sz="900" spc="-1" strike="noStrike">
                <a:solidFill>
                  <a:srgbClr val="000000"/>
                </a:solidFill>
                <a:latin typeface="Century Gothic"/>
                <a:ea typeface="Arial"/>
              </a:rPr>
              <a:t> Toda oración debería tener una porción significativa dedicada exclusivamente a la oración por los demás. La oración modelo de Cristo no comienza con “Padre mío,” sino con la expresión “Padre Nuestro”. En ningún lado utiliza esta oración pronombres personales como “Yo”, “Mi” o “Mío”. La oración de Cristo dice, da “nos”, guía “nos” y perdona “nos”. El énfasis está puesto claramente en los demá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por el ministerio y el evangelismo. </a:t>
            </a:r>
            <a:r>
              <a:rPr b="0" lang="es-ES" sz="900" spc="-1" strike="noStrike">
                <a:solidFill>
                  <a:srgbClr val="000000"/>
                </a:solidFill>
                <a:latin typeface="Century Gothic"/>
                <a:ea typeface="Arial"/>
              </a:rPr>
              <a:t>Al orar por los demás, nada es más importante que su bienestar espiritual. Millones de personas alrededor del mundo están esperando oír de Jesús. Ora por cada uno de los pastores de tu asociación. Ora por los oficiales de iglesia y los líderes de tu iglesia local y por los líderes de la asociación. En 1 Tes. 5:12, 13, Pablo nos dice que tengamos en alta estima a los que nos presiden en el Señor; nuestros pastores, maestros y líderes de iglesia. Ora por el clero y los miembros laicos de otras denominacion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Enfoca tus oraciones.</a:t>
            </a:r>
            <a:r>
              <a:rPr b="0" lang="es-ES" sz="900" spc="-1" strike="noStrike">
                <a:solidFill>
                  <a:srgbClr val="000000"/>
                </a:solidFill>
                <a:latin typeface="Century Gothic"/>
                <a:ea typeface="Arial"/>
              </a:rPr>
              <a:t> La oración intercesora debería estar enfocada en necesidades específicas, en nuestra nación, y todas las naciones del mundo. David oró, “Y tú, Jehová Dios de los ejércitos, Dios de Israel, despierta para castigar a todas las naciones” (Salmos 59:5). Ora por pastores específicos y líderes de Iglesia por nombre. Ora por los miembros de tu Iglesia. Quizá quieras dividir el directorio en secciones para que cada día alguna parte pueda ser cubierta en oración. Si estás orando por el mundo, podrías dividir los 210 países en siete grupos de treinta países, orando por uno de estos grupos cada día de la semana. Cada semana podrás visitar el mundo entero, país por país, en oración.</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Planifica tu tiempo de oración. </a:t>
            </a:r>
            <a:r>
              <a:rPr b="0" lang="es-ES" sz="900" spc="-1" strike="noStrike">
                <a:solidFill>
                  <a:srgbClr val="000000"/>
                </a:solidFill>
                <a:latin typeface="Century Gothic"/>
                <a:ea typeface="Arial"/>
              </a:rPr>
              <a:t>Desarrolla un plan antes de entrar en tu placard de oración. Si escribes tus oraciones, lleva tu libreta, birome y Biblia. Quizá quieras un marcador, etc. Si utilizas algún tipo de estructura, como el Padrenuestro, pídele a Dios cuidadosamente que te muestre por quién orar y cómo orar. Pídele su protección y guía al ora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Aprende a ayunar y orar.</a:t>
            </a:r>
            <a:r>
              <a:rPr b="0" lang="es-ES" sz="900" spc="-1" strike="noStrike">
                <a:solidFill>
                  <a:srgbClr val="000000"/>
                </a:solidFill>
                <a:latin typeface="Century Gothic"/>
                <a:ea typeface="Arial"/>
              </a:rPr>
              <a:t> El ayuno es la práctica de abstenerse deliberadamente de la alimentación normal con el propósito de agregarle poder a tu oración. Un sabio escritor dijo una vez: “Todos los hombres que han tenido el poder espiritual para prevalecer contra Dios y el hombre, han sido hombres que aprendieron a negarse a sí mismos con firmeza y mantener sus cuerpos por debajo”. Jesús dejó en claro que algunas victorias espirituales únicamente se consiguen por medio del ayuno y la oración (Marcos 9:28, 29). Designa al menos una comida por semana, o incluso un día entero para el ayuno y la oración. Enfoca esta oración intensa en naciones, individuos o ciudades que parecieran estar cerradas al evangelismo.</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Encuentra un compañero de oración. </a:t>
            </a:r>
            <a:r>
              <a:rPr b="0" lang="es-ES" sz="900" spc="-1" strike="noStrike">
                <a:solidFill>
                  <a:srgbClr val="000000"/>
                </a:solidFill>
                <a:latin typeface="Century Gothic"/>
                <a:ea typeface="Times New Roman"/>
              </a:rPr>
              <a:t>Jesús, el Maestro de la oración, enseñó que el hecho de orar con los demás aumenta el poder de la oración. Dijo: “...si dos de vosotros se pusieren de acuerdo en la tierra acerca de cualquiera cosa que pidieren, les será hecho por mi Padre que está en los cielos.” (Mat. 18:19). Nuestro Señor dejó en claro que un poder especial es derramado cuando dos personas se ponen de acuerdo con respecto a un tema determinado. Encuentra un compañero de oración que puede acompañarte al mismo tiempo que tu ores, aún si vive a cientos de kilómetros de distancia, o encuentra alguien que viva cerca para que puedan juntarse regularmente, ya sea en persona o por teléfono.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El verdadero secreto.</a:t>
            </a:r>
            <a:r>
              <a:rPr b="0" lang="es-ES" sz="1200" spc="-1" strike="noStrike">
                <a:solidFill>
                  <a:srgbClr val="000000"/>
                </a:solidFill>
                <a:latin typeface="Century Gothic"/>
                <a:ea typeface="Arial"/>
              </a:rPr>
              <a:t> Algunos han dicho que la clave verdadera para la oración—conocer a Dios y recibir sus respuestas—se aprende de Cristo en Marcos 11:24. Él dijo: “Por tanto, os digo que todo lo que pidiereis orando, creed que lo recibiréis, y os vendrá” La primera palabra importante aquí es “desear”, y esta es la clave. Si no “deseas” realmente, probablemente nunca recibas una respuesta a esa oración. Las oraciones intensas de fe por ti mismo y los demás son significativ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bido a que la oración es lo más importante que hacemos, y como la oración es extenuante, algunas personas a menudo toman unos minutitos de descanso antes de orar, de modo que puedan estar de la mejor forma para su trabajo más significativo. Dios brinda respuestas fantásticas. Orar es emocionante y significativo cuando lo haces de la manera que lo enseñó Jesú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ick Eastman &amp; Ruthie Jacobs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daptado con permis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501920" y="679320"/>
            <a:ext cx="3930480" cy="2948040"/>
          </a:xfrm>
          <a:prstGeom prst="rect">
            <a:avLst/>
          </a:prstGeom>
          <a:ln w="0">
            <a:noFill/>
          </a:ln>
        </p:spPr>
      </p:sp>
      <p:sp>
        <p:nvSpPr>
          <p:cNvPr id="128"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POR QUÉ ORAMOS? (RP-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os busca individuos, hombres y mujeres, que se “pongan de pie en la brecha”, y lo conozcan—mujeres que intercederán. La historia pertenece a los intercesores. ¡Él te busca 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Una mujer joven levantó el teléfono y llamó a su amiga, pero escuchó un “hola” susurrado desde el otro lado de la líne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ola Juancito, ¿está tu Mamá en casa?” Le preguntó al hijo de tres años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fue su pequeña y suave respues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uedo hablar con ella, cariño?” Pregunt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 ocup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Bueno, ¿está tu papá en ca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silencios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odría hablar con él?” Ahora ya estaba un poco cur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 ocupado,” respondió el niño, nuevamente en un susurr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ay alguien más allí?” Quiso sab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los bomberos.” Su corazón comenzó a latir con fuerza mientras se imaginaba todo tipo de desastres en la casa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Juancito, ¿alguno de ellos está cerca de un teléfono?” Preguntó nerv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n ocupado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Preguntó nerviosa, “¿Hay alguien más allí?” Ya estaba comenzando a sentirse desesper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él con su vocecita suave. “La policía también está aqu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Déjame hablar con uno de ellos, Juancito,” dij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n ocupados.” Susurr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 ver si entiendo, Juancito. Tu mamá está en casa, tu papá está allí, los bomberos y la policía están todos en tu casa. ¿Es ver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h h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Qué están haciendo?” Preguntó demandante, casi histér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Me están buscando a mí,” fue su susurro f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Tenemos un Dios que nos busca. En el jardín, Dios fue a buscar a sus dos hijos perdidos. Aunque él sabía exactamente donde estaban, salió a buscarlos. Era importante para él estar con sus hijos en ese entonces, y aún quiere estar con sus hijos ho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s difícil imaginar que tenemos un Dios que sale a buscarnos. Sabe donde estamos, qué estamos haciendo, incluso sabe en qué estamos pensando. ¿Por qué? Él hará todo lo que pueda para captar nuestra atención y ayudarnos a descubrir que su punto de vista sobre nosotros es el mismo que aquél atardecer en el Edén cuando salió a buscar sus primeros hij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l mensaje de su corazón para nosotros e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 he estado buscan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Eres muy especial para m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ngo un propósito específico par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2080" y="679320"/>
            <a:ext cx="4533840" cy="3400560"/>
          </a:xfrm>
          <a:prstGeom prst="rect">
            <a:avLst/>
          </a:prstGeom>
          <a:ln w="0">
            <a:noFill/>
          </a:ln>
        </p:spPr>
      </p:sp>
      <p:sp>
        <p:nvSpPr>
          <p:cNvPr id="1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gunos pueden decir, “¿Por qué orar si Dios ya conoce todo sobre mí y mis necesidades?”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quiere que lo conozcamos mejor. El propósito de la oración es de permitirnos entrar a su presencia, donde somos transformados. Le permite hacer más en nuestras vidas y en las vidas de aquellos por los que oramos. Alguien dijo una vez, “Dios gobierna el mundo a través de las oraciones de su pueblo.” En realidad Cristo quería que la oración sea la fuente de poder por medio de la cual la Iglesia debía realizar su ob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oración no cambia a Dios, nos transforma a nosotros. No es para decirle a Dios lo que ya sabe; significa entrar ante su presencia para que él pueda ayudarnos a entender lo que ya ve en nosotr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62080" y="679320"/>
            <a:ext cx="4533840" cy="3400560"/>
          </a:xfrm>
          <a:prstGeom prst="rect">
            <a:avLst/>
          </a:prstGeom>
          <a:ln w="0">
            <a:noFill/>
          </a:ln>
        </p:spPr>
      </p:sp>
      <p:sp>
        <p:nvSpPr>
          <p:cNvPr id="13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Qué hay de la fe? ¿No será que algunas personas tienen más fe que otros en forma natural? (RP-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Jorge Mueller, un gran líder cristiano del siglo pasado, proveyó techo, ropa, comida y educación a decenas de miles de huérfanos británicos, aunque el mismo era pobre. No era su plan original construir orfanatos, simplemente estaba buscando una manera para demostrar que Dios responde a las oraciones. A lo largo de su vida, el Señor proveyó millones de dólares, aunque Mueller jamás pidió dinero a nadie. A veces la gente decía que tenía un don especial—que la fe seguramente era un regalo de parte de Dios a causa de su trabajo para él. Siempre respondía que esto era inequívocamente falso. Explicó que la fe es dada a todos, pero que la fe crece con el ejercicio. Las pruebas son el clima perfecto para que la fe crez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a pareja joven, luego de visitar a varios médicos, fue enfrentada con la terrible noticia que su bebé tenía parálisis cerebral. Seguidamente sufrieron una montaña rusa de experiencias emocionales mientras intentaban comprender las implicancias del diagnóstico. Durante este tiempo aprendieron que Dios puede extraer algo maravilloso de una situación agoniz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 contar su historia la joven madre dijo, “Vimos pequeños milagros y fuimos recordados continuamente que la mano de Dios estaba obrando.” Luego hizo esta profunda observación: “Yo creo que Dios quiere mucho más para nosotros que lo que puede producir una existencia libre de preocupaciones.” Esto es permitir que la fe crezca, comenzar a experimentar la gran perspectiva eterna de Di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 SIEMPRE PRÁCTICA LA ORACIÓN? ¿pUEDEN SER MEDIDOS SUS RESULTADOS? (rp-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oración es una experiencia práctica. Alguien dijo que “Cuando trabajamos, trabajamos nosotros, pero cuando oramos, ¡Dios trabaja!”  En el gran conflicto entre el bien y el mal, Dios ha elegido ser sensible a las oraciones de su pueblo. El registro es claro: cuando el pueblo de Dios ora el sol se detiene en su camino, las murallas caen, los pecadores llegan a ser santos, los enemigos emprenden la retirada, las familias se unen, las preocupaciones son puestas bajo su estandarte de sanidad. ¿Qué le parece eso como algo que se puede med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unque ciertamente, a veces Dios es más sutil. No todas las oraciones son respondidas como deseamos o en el momento que pedimos. Pero él es demasiado grande para invitarnos a orar para luego ignorarnos cuando lo hacem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 interesante notar que muchos de los grandes predicadores de la historia cristiana—aquellos que fueron instrumentos de cambio de naciones enteras tales como Spurgeon, Finney, y Moody—fueron bendecidos por intercesores, aquellos que los elevaban constantemente ante el trono de Dios, suplicando el poder del Espíritu Santo en su ministerio. Por esto surge la pregunta de quien jugaba el rol más valioso, ¿los predicadores o los intercesores por medio de los cuales Dios les daba po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esto hace surgir una pregunta final: ¿Te está buscando Dios? ¿Te está llamando Dios para ser un intercesor en su Iglesia del tiempo del f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63600" y="679320"/>
            <a:ext cx="4332240" cy="3249720"/>
          </a:xfrm>
          <a:prstGeom prst="rect">
            <a:avLst/>
          </a:prstGeom>
          <a:ln w="0">
            <a:noFill/>
          </a:ln>
        </p:spPr>
      </p:sp>
      <p:sp>
        <p:nvSpPr>
          <p:cNvPr id="136"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ÓMO PUEDE TU IGLESIA SER FUERTE EN LA ORACIÓN (RP-5)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Una Iglesia poderosa tiene líderes que hacen de la oración una prioridad. Si observas detenidamente tu Iglesia, seguramente descubrirás que la mayor deficiencia de tu iglesia no son los programas, estrategias, materiales o ideas, sino la oración. Ésta es nuestra mayor necesidad</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El mayor poder de tu iglesia está en la oración. El poder para realizar un ministerio efectivo se recibe mediante la oración. La oración pone en foco la misión de la iglesia.</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Cada pastor y líder de iglesia necesita un compañero de oración y una iglesia que ora.</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ación, el estudio de la Biblia y el ministerio siempre deberían ir de la mano. La oración y el estudio de la Biblia sin servir y compartir puede crear cristianos complacientes. El ministerio sin la oración se convierte en un trabajo en poder de la carne, nuestros intentos únicamente con fuerzas humanas. Puede parecer exitoso, pero no posee las consecuencias eternas que Dios tenía en mente.</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Muchos están descubriendo que una manera poderos de aumentar su experiencia en la oración, el estudio de la Biblia y el ministerio es en un grupo pequeño. Un círculo de amigos se reunirá regularmente para orar juntos, estudiar las escrituras y buscar oportunidades para ayudar a aquellos que los rodean en sus propios hogares, en su grupo y en su comunidad. (Tanto adolescentes como adultos están descubriendo que un método simple, pero que transforma las vidas, puede ayudar—</a:t>
            </a:r>
            <a:r>
              <a:rPr b="1" lang="es-ES" sz="1000" spc="-1" strike="noStrike">
                <a:solidFill>
                  <a:srgbClr val="000000"/>
                </a:solidFill>
                <a:latin typeface="Century Gothic"/>
                <a:ea typeface="Arial"/>
              </a:rPr>
              <a:t>ver apéndice 1</a:t>
            </a:r>
            <a:r>
              <a:rPr b="0" lang="es-ES"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lanifiquen horarios, formas y lugares para que la gente ore juntos—por tu iglesia, sus líderes y por la comunidad. Esto anima a tener consistencia en la oración. Al oír a otras personas orar, tu propia vida de oración será fortalecida al oír sus experiencias. El hecho de orar juntos no solamente fortalece tu fe, sino que la oración mutua hace que la gran tarea de oración sea manejable</a:t>
            </a:r>
            <a:r>
              <a:rPr b="0" lang="es-ES_tradnl"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ima a tener devociones personales y familiares. La oración privada es la actividad más elevada en la que cualquier alma puede involucrarse. Pero si el culto familiar y personal son dejados de lado, es como salpicar el follaje de una planta con agua mientras dejas secar las raíces. Dios ha escogido la oración como la llave por medio de la cual su iglesia realiza su trabajo. Por medio de la oración realizamos un impacto en el mundo a favor de Di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N LA IGLESIA LOCAL (RP-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or algún tiempo Ana había sentido la impresión de que debía involucrarse en los ministerios de oración de algún modo. No estaba segura de por donde comenzar, así que oró y le pidió a Dios que le diera un compañero de oración—otra mujer que compartiera sus intereses y preocupaciones. Alguien con quien y por quien podría orar—alguien que se uniera a su trabajo de oración en su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 mucho tiempo después, alguien a quien apenas conocía estaba charlando con ella en un almuerzo de camaradería de la iglesia un sábado de tarde, y le comentó que había estado orando para que Dios la dirija para encontrar una compañera de oración. Llegaron a ser buenas amigas, y mientras oraban y estudiaban la palabra de Dios juntas su trabajo se descubrió ante ell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Hablaron con su pastor acerca de sus objetivos y las necesidades de la iglesia.  Le dijeron que les gustaría orar con él una vez por semana, y que orarían por el todos los sábados por la mañana antes que subiera a la plataforma para hablar. También le prometieron que iban a estar orando mientras él predicaba. Esto fue un momento de gran ánimo para el pastor—y una bendición para le iglesia ente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n el pastor y una pequeña comisión de oración, planificaron eventos de oración a lo largo del año—momentos especiales en los que otras iglesias podían unirse a ellos para tener seminarios específicos y oradores que trajeran recursos y nuevas experienc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minatas de la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lanificaron momentos de caminatas de oración. Comenzó lentamente al principio, con pocas personas involucradas, pero como Dios comenzó a responder, y las personas compartieron sus historias durante el servicio religioso, el entusiasmo creció. </a:t>
            </a:r>
            <a:r>
              <a:rPr b="1" lang="es-ES" sz="800" spc="-1" strike="noStrike">
                <a:solidFill>
                  <a:srgbClr val="000000"/>
                </a:solidFill>
                <a:latin typeface="Century Gothic"/>
                <a:ea typeface="Arial"/>
              </a:rPr>
              <a:t>(Ver apéndice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escubrieron que las caminatas de oración eran una manera poderosa y fácil de involucrar otras denominaciones. Todas las iglesias están interesadas en orar por su comunidad, y están buscando formas para alcanzarla de manera específica. Las caminatas de oración pueden ayudar a derribar las barreras en tu vecindario. Nos da más compasión y oportunidades de estar con y orar por y con los demá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sala de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bajaron con el pastor y la junta para proveer una sala de oración en la Iglesia. Aquí se podía encontrar un lugar tranquilo y atractivo donde personas de todas las denominaciones podían venir, orar, dejar pedidos específicos en una caja, y saber que un grupo de personas estaría orando por cada pedi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nto surgió la necesidad de un momento especial durante el servicio de la iglesia para los pedidos y respuestas de oración. La oración se convirtió en una prioridad, y el apuntalamiento de todo lo que se trataba la iglesia. Antes de cualquier evento, y/o durante la actividad a menudo había gente orando para que Dios interviniera y llevara sus esfuerzos a un nivel más al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ventana 10/4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 la sala de oración, alguien había colgado un mapa grande y encuadrado del mundo, con la ventana 10/40 remarcada </a:t>
            </a:r>
            <a:r>
              <a:rPr b="1" lang="es-ES" sz="800" spc="-1" strike="noStrike">
                <a:solidFill>
                  <a:srgbClr val="000000"/>
                </a:solidFill>
                <a:latin typeface="Century Gothic"/>
                <a:ea typeface="Arial"/>
              </a:rPr>
              <a:t>(ver apéndice 3</a:t>
            </a:r>
            <a:r>
              <a:rPr b="0" lang="es-ES" sz="800" spc="-1" strike="noStrike">
                <a:solidFill>
                  <a:srgbClr val="000000"/>
                </a:solidFill>
                <a:latin typeface="Century Gothic"/>
                <a:ea typeface="Arial"/>
              </a:rPr>
              <a:t>). Ésta área agitada del mundo va desde África Occidental, a través del Medio Oriente y Asia Ori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ás de 60 países caen dentro de los límites de 10 y 40 grados de latitud al norte del ecuador. Estos países incluyen la mayoría de los musulmanes, hindúes y budistas del mundo. Aquí es donde los más pobres de los pobres trabajan incesantemente solo para ganarse una existencia pobre. Aquí es donde la sequía no solamente ha profanado la tierra, sino también las mentes, cuerpos y espíritus de la gente. Es el lugar donde Satanás tiene gran poder, y se lo ha llegado a llamar el infierno en la tier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ómo podemos abrazar el mundo? ¿Cómo pueden ser alcanzadas las personas de la ventana 10/40? ¿Cómo pueden otros países, los países adormecidos de Europa y la Norte América endurecida por el evangeli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65200" y="679320"/>
            <a:ext cx="4132440" cy="3098880"/>
          </a:xfrm>
          <a:prstGeom prst="rect">
            <a:avLst/>
          </a:prstGeom>
          <a:ln w="0">
            <a:noFill/>
          </a:ln>
        </p:spPr>
      </p:sp>
      <p:sp>
        <p:nvSpPr>
          <p:cNvPr id="140"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respuesta a todas estas preguntas se encuentra en Mateo 9:37 y 38: </a:t>
            </a:r>
            <a:r>
              <a:rPr b="1" lang="es-ES" sz="1200" spc="-1" strike="noStrike">
                <a:solidFill>
                  <a:srgbClr val="000000"/>
                </a:solidFill>
                <a:latin typeface="Century Gothic"/>
                <a:ea typeface="Arial"/>
              </a:rPr>
              <a:t>(</a:t>
            </a:r>
            <a:r>
              <a:rPr b="1" lang="es-ES_tradnl" sz="1200" spc="-1" strike="noStrike">
                <a:solidFill>
                  <a:srgbClr val="000000"/>
                </a:solidFill>
                <a:latin typeface="Century Gothic"/>
                <a:ea typeface="Arial"/>
              </a:rPr>
              <a:t>Ver Power Point</a:t>
            </a:r>
            <a:r>
              <a:rPr b="1"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te es el único lugar en las Escrituras done Cristo señala un problema insuperable, y brinda una solución divina. </a:t>
            </a:r>
            <a:r>
              <a:rPr b="1" lang="es-ES" sz="1200" spc="-1" strike="noStrike">
                <a:solidFill>
                  <a:srgbClr val="000000"/>
                </a:solidFill>
                <a:latin typeface="Century Gothic"/>
                <a:ea typeface="Arial"/>
              </a:rPr>
              <a:t>La respuesta es l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risto prometió que si pedimos algo en su nombre, él lo hará (Juan 14: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ena de White escribió sobre el valor del trabajo y la oración por los demás. Ella escribi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El manifestar un espíritu generoso y abnegado para con el éxito de las misiones en el extranjero es una manera segura de hacer progresar la obra misionera en el país propio; porque la prosperidad de la obra que se haga en él depende en gran parte, después de Dios, de la influencia refleja que tiene la obra evangélica hecha en los países lejanos.” (</a:t>
            </a:r>
            <a:r>
              <a:rPr b="0" i="1" lang="es-ES" sz="1200" spc="-1" strike="noStrike">
                <a:solidFill>
                  <a:srgbClr val="000000"/>
                </a:solidFill>
                <a:latin typeface="Century Gothic"/>
                <a:ea typeface="Times New Roman"/>
              </a:rPr>
              <a:t>Obreros evangélicos</a:t>
            </a:r>
            <a:r>
              <a:rPr b="0" lang="es-ES" sz="1200" spc="-1" strike="noStrike">
                <a:solidFill>
                  <a:srgbClr val="000000"/>
                </a:solidFill>
                <a:latin typeface="Century Gothic"/>
                <a:ea typeface="Times New Roman"/>
              </a:rPr>
              <a:t>, p.48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065E4-6C79-44DB-83E4-B103DD9FC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5274D-002C-49F8-B0B2-F2CE44294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31A11-BAB8-451C-BD84-9D5558220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A3A87-1D4F-47D9-8676-2BDFB2B04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A717A-10CD-4AB1-9ED4-4F8D4ED0F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4AC92-5846-4133-A6CD-3175BD27F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81A4E-B422-442B-BB95-74E26D7B5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90AB7-61E4-4C33-8655-490692FAC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A8267-21B9-48CC-AA5C-C4E978391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232B3-4A49-4D60-BE08-075ECEE14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4BEF5-D206-4B43-B751-046827F01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2A16D-E51C-48D0-B345-6D4FFE32A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E06CA-349A-4435-B715-7BC41390E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4F2CA-4DB2-43DF-AF14-4AD432DA2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EA768-FFE9-491A-BD6B-91B03416D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5D02A-B686-4DEF-818E-27D35052F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090B3-4AE6-4963-B8E3-C4419951D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7393B-7AA1-426C-83A4-261B02E42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315A0-B652-4DE8-8E51-78334A3DA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7031D-E073-4729-9DDB-C41018949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D4DE0-5E00-4578-9346-42C4FF0FA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2CE7-5696-45E1-B5EF-B3078F7FD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A41E-51B4-40F6-8EBF-11F809598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3D515-C977-4D51-B669-81BA7EC0B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B63B-55BF-42D6-8A78-4EF70F22EA0D}"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462D-110D-42BD-A5A7-A9F434FF1B98}"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3429000"/>
            <a:ext cx="5334120" cy="28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Por </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Ruthie Jacobsen</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Certificación de liderazgo Nivel 2</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Ministerio de la Mujer</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Asociación General</a:t>
            </a:r>
            <a:endParaRPr b="0" lang="en-US" sz="1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6000" y="456840"/>
            <a:ext cx="6858000" cy="1219320"/>
          </a:xfrm>
          <a:prstGeom prst="rect">
            <a:avLst/>
          </a:prstGeom>
          <a:noFill/>
          <a:ln w="0">
            <a:noFill/>
          </a:ln>
        </p:spPr>
        <p:txBody>
          <a:bodyPr lIns="90000" rIns="90000" tIns="46800" bIns="46800" anchor="t">
            <a:noAutofit/>
          </a:bodyPr>
          <a:p>
            <a:pPr>
              <a:lnSpc>
                <a:spcPct val="90000"/>
              </a:lnSpc>
              <a:spcBef>
                <a:spcPts val="901"/>
              </a:spcBef>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0" lang="en-US" sz="3600" spc="-1" strike="noStrike">
              <a:solidFill>
                <a:srgbClr val="f6e8ee"/>
              </a:solidFill>
              <a:latin typeface="Georgia"/>
            </a:endParaRPr>
          </a:p>
        </p:txBody>
      </p:sp>
      <p:sp>
        <p:nvSpPr>
          <p:cNvPr id="107" name=""/>
          <p:cNvSpPr/>
          <p:nvPr/>
        </p:nvSpPr>
        <p:spPr>
          <a:xfrm>
            <a:off x="533520" y="388620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
        <p:nvSpPr>
          <p:cNvPr id="108" name=""/>
          <p:cNvSpPr/>
          <p:nvPr/>
        </p:nvSpPr>
        <p:spPr>
          <a:xfrm>
            <a:off x="609480" y="228744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única disciplina espiritual que cumple con las condiciones de 2 Crónicas 7:14</a:t>
            </a: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manera espiritual de humillarnos ante Dios. (Salmos 35:13)</a:t>
            </a:r>
            <a:endParaRPr b="0" lang="en-US" sz="2800" spc="-1" strike="noStrike">
              <a:solidFill>
                <a:srgbClr val="f6e8ee"/>
              </a:solidFill>
              <a:latin typeface="Times New Roman"/>
            </a:endParaRPr>
          </a:p>
        </p:txBody>
      </p:sp>
      <p:sp>
        <p:nvSpPr>
          <p:cNvPr id="109" name=""/>
          <p:cNvSpPr/>
          <p:nvPr/>
        </p:nvSpPr>
        <p:spPr>
          <a:xfrm>
            <a:off x="2362320" y="137160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514600"/>
            <a:ext cx="8382240" cy="358128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Provee más tiempo para orar y arrepentirse </a:t>
            </a:r>
            <a:r>
              <a:rPr b="1" i="1" lang="es-ES" sz="2000" spc="-1" strike="noStrike">
                <a:solidFill>
                  <a:srgbClr val="3333cc"/>
                </a:solidFill>
                <a:latin typeface="Georgia"/>
              </a:rPr>
              <a:t>(1 Sam. 7:6)</a:t>
            </a:r>
            <a:endParaRPr b="0" lang="en-US" sz="2000" spc="-1" strike="noStrike">
              <a:solidFill>
                <a:srgbClr val="f6e8ee"/>
              </a:solidFill>
              <a:latin typeface="Georgia"/>
            </a:endParaRPr>
          </a:p>
          <a:p>
            <a:pPr marL="343080" indent="-343080">
              <a:lnSpc>
                <a:spcPct val="9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Nos ayuda a tener claridad de pensamiento y la habilidad de concentrarnos en la Palabra de Dios. </a:t>
            </a:r>
            <a:r>
              <a:rPr b="1" i="1" lang="es-ES" sz="2000" spc="-1" strike="noStrike">
                <a:solidFill>
                  <a:srgbClr val="3333cc"/>
                </a:solidFill>
                <a:latin typeface="Georgia"/>
              </a:rPr>
              <a:t>(Jeremías 36:6)</a:t>
            </a:r>
            <a:endParaRPr b="0" lang="en-US" sz="2000" spc="-1" strike="noStrike">
              <a:solidFill>
                <a:srgbClr val="f6e8ee"/>
              </a:solidFill>
              <a:latin typeface="Georgia"/>
            </a:endParaRPr>
          </a:p>
        </p:txBody>
      </p:sp>
      <p:sp>
        <p:nvSpPr>
          <p:cNvPr id="111" name="PlaceHolder 2"/>
          <p:cNvSpPr>
            <a:spLocks noGrp="1"/>
          </p:cNvSpPr>
          <p:nvPr>
            <p:ph type="title"/>
          </p:nvPr>
        </p:nvSpPr>
        <p:spPr>
          <a:xfrm>
            <a:off x="1980720" y="533160"/>
            <a:ext cx="678204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2" name=""/>
          <p:cNvSpPr/>
          <p:nvPr/>
        </p:nvSpPr>
        <p:spPr>
          <a:xfrm>
            <a:off x="1905120" y="160020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120" y="2514600"/>
            <a:ext cx="807732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Transforma la oración en una experiencia más rica, profunda y personal. </a:t>
            </a:r>
            <a:r>
              <a:rPr b="1" i="1" lang="es-ES" sz="2000" spc="-1" strike="noStrike">
                <a:solidFill>
                  <a:srgbClr val="3333cc"/>
                </a:solidFill>
                <a:latin typeface="Georgia"/>
              </a:rPr>
              <a:t>(Esdras 8:23)</a:t>
            </a:r>
            <a:endParaRPr b="0" lang="en-US" sz="2000" spc="-1" strike="noStrike">
              <a:solidFill>
                <a:srgbClr val="f6e8ee"/>
              </a:solidFill>
              <a:latin typeface="Georgi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El ayuno puede ayudar a traer reavivamiento, y es de vital</a:t>
            </a:r>
            <a:r>
              <a:rPr b="1" i="1" lang="es-ES" sz="3200" spc="-1" strike="noStrike">
                <a:solidFill>
                  <a:srgbClr val="3333cc"/>
                </a:solidFill>
                <a:latin typeface="Georgia"/>
              </a:rPr>
              <a:t> </a:t>
            </a:r>
            <a:r>
              <a:rPr b="1" i="1" lang="es-ES" sz="3200" spc="-1" strike="noStrike">
                <a:solidFill>
                  <a:srgbClr val="3333cc"/>
                </a:solidFill>
                <a:latin typeface="Georgia"/>
              </a:rPr>
              <a:t>importancia al orar por el evangelismo. </a:t>
            </a:r>
            <a:r>
              <a:rPr b="1" i="1" lang="es-ES" sz="2000" spc="-1" strike="noStrike">
                <a:solidFill>
                  <a:srgbClr val="3333cc"/>
                </a:solidFill>
                <a:latin typeface="Georgia"/>
              </a:rPr>
              <a:t>(Hechos 13:3)</a:t>
            </a:r>
            <a:endParaRPr b="0" lang="en-US" sz="2000" spc="-1" strike="noStrike">
              <a:solidFill>
                <a:srgbClr val="f6e8ee"/>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eorgia"/>
            </a:endParaRPr>
          </a:p>
        </p:txBody>
      </p:sp>
      <p:sp>
        <p:nvSpPr>
          <p:cNvPr id="114" name="PlaceHolder 2"/>
          <p:cNvSpPr>
            <a:spLocks noGrp="1"/>
          </p:cNvSpPr>
          <p:nvPr>
            <p:ph type="title"/>
          </p:nvPr>
        </p:nvSpPr>
        <p:spPr>
          <a:xfrm>
            <a:off x="2133360" y="533160"/>
            <a:ext cx="662940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5" name=""/>
          <p:cNvSpPr/>
          <p:nvPr/>
        </p:nvSpPr>
        <p:spPr>
          <a:xfrm>
            <a:off x="1905120" y="1600200"/>
            <a:ext cx="67816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456840"/>
            <a:ext cx="7010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Cómo puedes llegar a ser fuerte en la oración</a:t>
            </a:r>
            <a:endParaRPr b="1" lang="en-US" sz="3600" spc="-1" strike="noStrike">
              <a:solidFill>
                <a:srgbClr val="a59658"/>
              </a:solidFill>
              <a:latin typeface="Arial"/>
            </a:endParaRPr>
          </a:p>
        </p:txBody>
      </p:sp>
      <p:sp>
        <p:nvSpPr>
          <p:cNvPr id="117" name=""/>
          <p:cNvSpPr/>
          <p:nvPr/>
        </p:nvSpPr>
        <p:spPr>
          <a:xfrm>
            <a:off x="1143000" y="1703520"/>
            <a:ext cx="6781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Haz tiempo para orar. Encuentra un lugar silencioso para orar y estudiar la Biblia. Reconoce a Dios por quien es. Confiesa tus faltas. Agradécele a Dios por lo que ha hecho. Trae a Dios tus necesidades y peticiones. No te des por vencido. Medita en la presencia de Dios. Canta un cántico nuevo.</a:t>
            </a:r>
            <a:endParaRPr b="0" lang="en-US" sz="2800" spc="-1" strike="noStrike">
              <a:solidFill>
                <a:srgbClr val="f6e8ee"/>
              </a:solidFill>
              <a:latin typeface="Times New Roman"/>
            </a:endParaRPr>
          </a:p>
        </p:txBody>
      </p:sp>
      <p:sp>
        <p:nvSpPr>
          <p:cNvPr id="118" name=""/>
          <p:cNvSpPr/>
          <p:nvPr/>
        </p:nvSpPr>
        <p:spPr>
          <a:xfrm>
            <a:off x="2209680" y="1447920"/>
            <a:ext cx="632484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133720"/>
            <a:ext cx="5943600" cy="3657600"/>
          </a:xfrm>
          <a:prstGeom prst="rect">
            <a:avLst/>
          </a:prstGeom>
          <a:noFill/>
          <a:ln w="0">
            <a:noFill/>
          </a:ln>
        </p:spPr>
        <p:txBody>
          <a:bodyPr lIns="90000" rIns="90000" tIns="46800" bIns="46800" anchor="t">
            <a:normAutofit fontScale="91000"/>
          </a:bodyPr>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mucho por los demá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por el ministerio y el evangelismo.</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foca tus oracione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Planifica tu tiempo de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Aprende a hacer ayuno y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cuentra un compañero de oración.</a:t>
            </a:r>
            <a:endParaRPr b="0" lang="en-US" sz="2800" spc="-1" strike="noStrike">
              <a:solidFill>
                <a:srgbClr val="f6e8ee"/>
              </a:solidFill>
              <a:latin typeface="Georgia"/>
            </a:endParaRPr>
          </a:p>
        </p:txBody>
      </p:sp>
      <p:sp>
        <p:nvSpPr>
          <p:cNvPr id="120" name=""/>
          <p:cNvSpPr/>
          <p:nvPr/>
        </p:nvSpPr>
        <p:spPr>
          <a:xfrm>
            <a:off x="1905120" y="304920"/>
            <a:ext cx="6933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Georgia"/>
              </a:rPr>
              <a:t>Cómo puedes llegar a ser fuerte en la oración</a:t>
            </a:r>
            <a:endParaRPr b="0" lang="en-US" sz="4400" spc="-1" strike="noStrike">
              <a:solidFill>
                <a:srgbClr val="f6e8ee"/>
              </a:solidFill>
              <a:latin typeface="Times New Roman"/>
            </a:endParaRPr>
          </a:p>
        </p:txBody>
      </p:sp>
      <p:sp>
        <p:nvSpPr>
          <p:cNvPr id="121" name=""/>
          <p:cNvSpPr/>
          <p:nvPr/>
        </p:nvSpPr>
        <p:spPr>
          <a:xfrm>
            <a:off x="1905120" y="175248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l verdadero secreto</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lgunos han dicho que la clave verdadera para la oración, conocer a Dios y recibir sus respuestas, se aprende de Cristo en Marcos 11:24.</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t>
            </a:r>
            <a:r>
              <a:rPr b="1" i="1" lang="es-ES" sz="2400" spc="-1" strike="noStrike">
                <a:solidFill>
                  <a:srgbClr val="3333cc"/>
                </a:solidFill>
                <a:latin typeface="Georgia"/>
              </a:rPr>
              <a:t>Por tanto, os digo que todo lo que pidiereis orando, creed que lo recibiréis, y os vendrá”</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Si no “deseas” realmente, probablemente nunca recibirás una respuesta a esa oración. Las oraciones intensas de fe por ti mismo y por los demás son significativas.</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
        <p:nvSpPr>
          <p:cNvPr id="126" name=""/>
          <p:cNvSpPr/>
          <p:nvPr/>
        </p:nvSpPr>
        <p:spPr>
          <a:xfrm>
            <a:off x="2057400" y="1371600"/>
            <a:ext cx="64771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7760" y="1295280"/>
            <a:ext cx="5715000" cy="5181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Dios busca individuos,</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hombres y mujeres, que</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se “pongan de pie en la</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brecha”, y lo conozcan;</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mujeres que intercederán. La historia pertenece a los intercesores. </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c223a"/>
                </a:solidFill>
                <a:latin typeface="Georgia"/>
              </a:rPr>
              <a:t>¡Él te busca a ti!</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8120" y="609120"/>
            <a:ext cx="5486400" cy="5257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3333cc"/>
                </a:solidFill>
                <a:latin typeface="Georgia"/>
              </a:rPr>
              <a:t>¿Por qué orar si Dios ya conoce mis necesidades?</a:t>
            </a:r>
            <a:endParaRPr b="1" lang="en-US" sz="60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90360"/>
            <a:ext cx="6172200" cy="5181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33cc"/>
                </a:solidFill>
                <a:latin typeface="Georgia"/>
              </a:rPr>
              <a:t>¿Qué hay de la fe? ¿No será que algunas personas tienen más fe que otras en forma natural?</a:t>
            </a:r>
            <a:endParaRPr b="1" lang="en-US" sz="54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9360" y="457200"/>
            <a:ext cx="7694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La oración es una experiencia práctica</a:t>
            </a:r>
            <a:endParaRPr b="1" lang="en-US" sz="4800" spc="-1" strike="noStrike">
              <a:solidFill>
                <a:srgbClr val="a59658"/>
              </a:solidFill>
              <a:latin typeface="Arial"/>
            </a:endParaRPr>
          </a:p>
        </p:txBody>
      </p:sp>
      <p:sp>
        <p:nvSpPr>
          <p:cNvPr id="94" name=""/>
          <p:cNvSpPr/>
          <p:nvPr/>
        </p:nvSpPr>
        <p:spPr>
          <a:xfrm>
            <a:off x="3657600" y="2514600"/>
            <a:ext cx="4648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a:t>
            </a:r>
            <a:r>
              <a:rPr b="1" i="1" lang="es-ES" sz="4000" spc="-1" strike="noStrike">
                <a:solidFill>
                  <a:srgbClr val="3333cc"/>
                </a:solidFill>
                <a:latin typeface="Georgia"/>
              </a:rPr>
              <a:t>Cuando trabajamos, trabajamos nosotros, pero cuando oramos, ¡Trabaja Dios!”</a:t>
            </a:r>
            <a:endParaRPr b="0" lang="en-US" sz="4000" spc="-1" strike="noStrike">
              <a:solidFill>
                <a:srgbClr val="f6e8ee"/>
              </a:solidFill>
              <a:latin typeface="Times New Roman"/>
            </a:endParaRPr>
          </a:p>
        </p:txBody>
      </p:sp>
      <p:sp>
        <p:nvSpPr>
          <p:cNvPr id="95" name=""/>
          <p:cNvSpPr/>
          <p:nvPr/>
        </p:nvSpPr>
        <p:spPr>
          <a:xfrm>
            <a:off x="2133720" y="19810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684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97" name="PlaceHolder 2"/>
          <p:cNvSpPr>
            <a:spLocks noGrp="1"/>
          </p:cNvSpPr>
          <p:nvPr>
            <p:ph/>
          </p:nvPr>
        </p:nvSpPr>
        <p:spPr>
          <a:xfrm>
            <a:off x="990720" y="2209680"/>
            <a:ext cx="7238880" cy="3276720"/>
          </a:xfrm>
          <a:prstGeom prst="rect">
            <a:avLst/>
          </a:prstGeom>
          <a:noFill/>
          <a:ln w="0">
            <a:noFill/>
          </a:ln>
        </p:spPr>
        <p:txBody>
          <a:bodyPr lIns="90000" rIns="90000" tIns="46800" bIns="46800" anchor="t">
            <a:normAutofit/>
          </a:bodyPr>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Una Iglesia poderosa tiene líderes que hacen de la oración una prioridad.</a:t>
            </a:r>
            <a:endParaRPr b="0" lang="en-US" sz="3200" spc="-1" strike="noStrike">
              <a:solidFill>
                <a:srgbClr val="f6e8ee"/>
              </a:solidFill>
              <a:latin typeface="Georgia"/>
            </a:endParaRPr>
          </a:p>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La oración, el estudio de la Biblia y el ministerio siempre deberían ir de la mano.</a:t>
            </a:r>
            <a:endParaRPr b="0" lang="en-US" sz="3200" spc="-1" strike="noStrike">
              <a:solidFill>
                <a:srgbClr val="f6e8ee"/>
              </a:solidFill>
              <a:latin typeface="Georgia"/>
            </a:endParaRPr>
          </a:p>
        </p:txBody>
      </p:sp>
      <p:sp>
        <p:nvSpPr>
          <p:cNvPr id="98" name=""/>
          <p:cNvSpPr/>
          <p:nvPr/>
        </p:nvSpPr>
        <p:spPr>
          <a:xfrm>
            <a:off x="1752480" y="1600200"/>
            <a:ext cx="6705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2362320"/>
            <a:ext cx="7925040" cy="3581280"/>
          </a:xfrm>
          <a:prstGeom prst="rect">
            <a:avLst/>
          </a:prstGeom>
          <a:noFill/>
          <a:ln w="0">
            <a:noFill/>
          </a:ln>
        </p:spPr>
        <p:txBody>
          <a:bodyPr lIns="90000" rIns="90000" tIns="46800" bIns="46800" anchor="t">
            <a:normAutofit/>
          </a:bodyPr>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Crea momentos, formas y lugares para que las personas oren juntas.</a:t>
            </a:r>
            <a:endParaRPr b="0" lang="en-US" sz="3600" spc="-1" strike="noStrike">
              <a:solidFill>
                <a:srgbClr val="f6e8ee"/>
              </a:solidFill>
              <a:latin typeface="Georgia"/>
            </a:endParaRPr>
          </a:p>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Anima a realizar la devoción personal y familiar.</a:t>
            </a:r>
            <a:endParaRPr b="0" lang="en-US" sz="3600" spc="-1" strike="noStrike">
              <a:solidFill>
                <a:srgbClr val="f6e8ee"/>
              </a:solidFill>
              <a:latin typeface="Georgia"/>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00" name="PlaceHolder 2"/>
          <p:cNvSpPr>
            <a:spLocks noGrp="1"/>
          </p:cNvSpPr>
          <p:nvPr>
            <p:ph type="title"/>
          </p:nvPr>
        </p:nvSpPr>
        <p:spPr>
          <a:xfrm>
            <a:off x="1980720" y="533160"/>
            <a:ext cx="67820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101" name=""/>
          <p:cNvSpPr/>
          <p:nvPr/>
        </p:nvSpPr>
        <p:spPr>
          <a:xfrm>
            <a:off x="1752480" y="167652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533160"/>
            <a:ext cx="7239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n la iglesia local</a:t>
            </a:r>
            <a:endParaRPr b="1" lang="en-US" sz="4800" spc="-1" strike="noStrike">
              <a:solidFill>
                <a:srgbClr val="a59658"/>
              </a:solidFill>
              <a:latin typeface="Arial"/>
            </a:endParaRPr>
          </a:p>
        </p:txBody>
      </p:sp>
      <p:sp>
        <p:nvSpPr>
          <p:cNvPr id="103" name="PlaceHolder 2"/>
          <p:cNvSpPr>
            <a:spLocks noGrp="1"/>
          </p:cNvSpPr>
          <p:nvPr>
            <p:ph/>
          </p:nvPr>
        </p:nvSpPr>
        <p:spPr>
          <a:xfrm>
            <a:off x="838080" y="2209320"/>
            <a:ext cx="5639040" cy="3505320"/>
          </a:xfrm>
          <a:prstGeom prst="rect">
            <a:avLst/>
          </a:prstGeom>
          <a:noFill/>
          <a:ln w="0">
            <a:noFill/>
          </a:ln>
        </p:spPr>
        <p:txBody>
          <a:bodyPr lIns="90000" rIns="90000" tIns="46800" bIns="46800" anchor="t">
            <a:normAutofit/>
          </a:bodyPr>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Caminatas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sala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ventana 10/40</a:t>
            </a:r>
            <a:endParaRPr b="0" lang="en-US" sz="4000" spc="-1" strike="noStrike">
              <a:solidFill>
                <a:srgbClr val="f6e8ee"/>
              </a:solidFill>
              <a:latin typeface="Georgia"/>
            </a:endParaRPr>
          </a:p>
        </p:txBody>
      </p:sp>
      <p:sp>
        <p:nvSpPr>
          <p:cNvPr id="104" name=""/>
          <p:cNvSpPr/>
          <p:nvPr/>
        </p:nvSpPr>
        <p:spPr>
          <a:xfrm>
            <a:off x="2362320" y="1447920"/>
            <a:ext cx="61722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990720"/>
            <a:ext cx="571500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Georgia"/>
              </a:rPr>
              <a:t>“</a:t>
            </a:r>
            <a:r>
              <a:rPr b="1" i="1" lang="es-ES" sz="4400" spc="-1" strike="noStrike">
                <a:solidFill>
                  <a:srgbClr val="3333cc"/>
                </a:solidFill>
                <a:latin typeface="Georgia"/>
              </a:rPr>
              <a:t>Entonces dijo a sus discípulos: A la verdad la mies es mucha, mas los obreros pocos. Rogad, pues, al Señor de la mies, que envíe obreros a su mies.”</a:t>
            </a:r>
            <a:br>
              <a:rPr sz="900"/>
            </a:br>
            <a:br>
              <a:rPr sz="900"/>
            </a:br>
            <a:r>
              <a:rPr b="1" i="1" lang="es-ES" sz="1800" spc="-1" strike="noStrike">
                <a:solidFill>
                  <a:srgbClr val="2c223a"/>
                </a:solidFill>
                <a:latin typeface="Georgia"/>
              </a:rPr>
              <a:t>Mateo 9:37, 38</a:t>
            </a:r>
            <a:endParaRPr b="1" lang="en-US" sz="18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Nelida Leguizamon</cp:lastModifiedBy>
  <dcterms:modified xsi:type="dcterms:W3CDTF">2006-05-31T17:07:22Z</dcterms:modified>
  <cp:revision>33</cp:revision>
  <dc:subject/>
  <dc:title>Slide 1</dc:title>
</cp:coreProperties>
</file>